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140E-4CF0-43E9-B5CA-0436BA9F5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amentality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p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2B7F-09CE-4561-BB28-54247EFE276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28CB-B9E5-4257-A7F4-F597CA95842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MI (Where do I start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oogle: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nkfinity: Chi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1FCA-BB6F-4DD5-A377-8CF763946F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#2 Grade Level Appropri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some good websites for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raders learning alegr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websites are b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2D00-2A6C-4815-B121-CF81020AA1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teachers use good search skills to reduce the amount of time wasted by students working on internet related proble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5ACB-539C-485F-9B10-9C4D4D1E200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BC7-428C-4F8E-A2AF-420E2F66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76C-3F8D-4970-9790-23FCFFF5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6EB-79FD-4AD2-BC13-3356CA42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BA8-2FFA-4499-B7B6-78FA51DA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53878-55EC-485E-9CAC-A188601D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EB5D0-6681-4FE1-BBC8-84BAE166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3E563-366E-450C-B243-81112247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231FA-8003-400C-AB3D-6DFF0496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E36BA-9A16-4B96-BD81-9F2BA0C4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D03B0-AD82-4268-A65D-4BA4F8D8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6DF1A-AEE9-43F9-A70B-4FC96658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F4B-7703-4DF0-8E78-0C1FED48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98614-48E5-466D-AFDF-4D644C3F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422BF-DC27-43C2-8C45-B43B827B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ED7CF-AE74-414E-9D9F-77BFA218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9606F-B049-48DB-85E1-FA3D7465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76B05-6C69-4C68-B923-9E17AF26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397-EFEC-4B99-9319-4C683F1F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E20-97B2-4D77-97B7-A1208706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40FB-CAED-4AF0-B580-9767DC6E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3F1-C6F9-4046-9887-050DF2A5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A2C-370A-4445-B9AD-84349BA0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CD9-41E9-4DAA-BBA1-2E3D6BD8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B1A-4114-453B-A782-CF5F1691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ACC0-5A3E-4011-97AA-74637FFEC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31FA-213E-47A3-8CD8-6CFB6F410D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ts-implementation.iste.wikispaces.net/Videos+of+NETS&#8226;S+in+Actio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sing the Internet in the Classroom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wesome Authentic Assessment vs. Tragic Time-Wa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eating Cool Internet Based Activit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rcRect l="12501" t="20889" r="13280" b="7951"/>
          <a:stretch/>
        </p:blipFill>
        <p:spPr>
          <a:xfrm>
            <a:off x="1219320" y="1828800"/>
            <a:ext cx="7238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the standards drive the b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re an idea from your unit plan review for using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3" descr="C:\Documents and Settings\afante01\My Documents\My Pictures\Microsoft Clip Organizer\j0236335.gif"/>
          <p:cNvPicPr/>
          <p:nvPr/>
        </p:nvPicPr>
        <p:blipFill>
          <a:blip r:embed="rId1"/>
          <a:stretch/>
        </p:blipFill>
        <p:spPr>
          <a:xfrm>
            <a:off x="3733920" y="3733920"/>
            <a:ext cx="26668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st Practices vs. Technology Showc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a curricular example where the following technologies would not be appropriate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g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t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k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45720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Create an “Emotional”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ization (Share Examp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ertainment (Share something fun you do on-line…how could this be a lesson??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ly Driven  (Adds learning sty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6" descr="http://ihasahotdog.wordpress.com/files/2009/08/funny-dog-pictures-hear-awesome.jpg"/>
          <p:cNvPicPr/>
          <p:nvPr/>
        </p:nvPicPr>
        <p:blipFill>
          <a:blip r:embed="rId1"/>
          <a:stretch/>
        </p:blipFill>
        <p:spPr>
          <a:xfrm>
            <a:off x="2057400" y="137160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Real world conn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-based lear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hentic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(Math SM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Frog and Toad Surve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C:\Documents and Settings\afante01\Local Settings\Temporary Internet Files\Content.IE5\IPW9A5CV\MCj04398230000[1].png"/>
          <p:cNvPicPr/>
          <p:nvPr/>
        </p:nvPicPr>
        <p:blipFill>
          <a:blip r:embed="rId2"/>
          <a:stretch/>
        </p:blipFill>
        <p:spPr>
          <a:xfrm>
            <a:off x="48006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st Practices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“Doable” assignments – Make a sample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C:\Documents and Settings\afante01\Local Settings\Temporary Internet Files\Content.IE5\I72L4Z0J\MPj04386750000[1].jpg"/>
          <p:cNvPicPr/>
          <p:nvPr/>
        </p:nvPicPr>
        <p:blipFill>
          <a:blip r:embed="rId1"/>
          <a:stretch/>
        </p:blipFill>
        <p:spPr>
          <a:xfrm>
            <a:off x="3352680" y="2590920"/>
            <a:ext cx="2822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blem #1: T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8" descr="http://sidoxia.files.wordpress.com/2010/01/information-overload.jpg"/>
          <p:cNvPicPr/>
          <p:nvPr/>
        </p:nvPicPr>
        <p:blipFill>
          <a:blip r:embed="rId1"/>
          <a:stretch/>
        </p:blipFill>
        <p:spPr>
          <a:xfrm>
            <a:off x="1371600" y="2600280"/>
            <a:ext cx="64008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2 Grade Level Appropri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http://tutorsasap.com/wp-content/uploads/2008/09/algebra_tutor_baltimore.jpg"/>
          <p:cNvPicPr/>
          <p:nvPr/>
        </p:nvPicPr>
        <p:blipFill>
          <a:blip r:embed="rId1"/>
          <a:stretch/>
        </p:blipFill>
        <p:spPr>
          <a:xfrm>
            <a:off x="2590920" y="2590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or Practice and the Inter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2952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blem #3 Poor Prep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9" descr="http://www.crdailystar.com/wp-content/uploads/2010/04/home-painting.jpg"/>
          <p:cNvPicPr/>
          <p:nvPr/>
        </p:nvPicPr>
        <p:blipFill>
          <a:blip r:embed="rId1"/>
          <a:stretch/>
        </p:blipFill>
        <p:spPr>
          <a:xfrm>
            <a:off x="990720" y="1828800"/>
            <a:ext cx="7118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2:38:08Z</dcterms:created>
  <dc:creator>JDavid</dc:creator>
  <dc:description/>
  <dc:language>en-US</dc:language>
  <cp:lastModifiedBy>BPS</cp:lastModifiedBy>
  <dcterms:modified xsi:type="dcterms:W3CDTF">2012-05-03T18:41:20Z</dcterms:modified>
  <cp:revision>27</cp:revision>
  <dc:subject/>
  <dc:title>Using the Internet in the Classroom: </dc:title>
</cp:coreProperties>
</file>